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Use the Ontario curriculum document, the Mathematical Processes package, and/or the DI Mathematical Processes cards to help you determine the process expectation(s) that could be explicitly taught through this tas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Use the Ontario curriculum document, the Mathematical Processes package, and/or the DI Mathematical Processes cards to help you determine the process expectation(s) that could be explicitly taught through this tas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is is the centre point of the placemat from the introductory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ipants select either learning goals or success cri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s a group, revisit your initial definitions on your Placement and draw on your learning from this Breakout session to create a Frayer Model for one of the terms explored today, i.e. Learning Goals, Success Cri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n your personal think space, capture some of your key learnings and/or prior knowledge about ___________________. 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(e.g., Learning Goals </a:t>
            </a: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and/or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Success Criter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Use this as a diagnostic for participant’s comfort level with success criteria and learning goals – have participant’s choose either for their placemat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her than discuss these terms now, we will do some work around them and discuss them in more detail at the end of this Breakout se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Blue is about the mathematics (the wh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Yellow is about process expectations (the how of their ability to support the mathemati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uccess criteria does not need to be all of these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Knowledge and Understanding always has to be present, which process you focus on to support the knowledge and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As a group, use the 11x17 template provided to record your think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We are going to complete the template in chun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Be ready to stop and discuss your thinking along the w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onsider using the Proportional Reasoning package/Ontario Curriculum  provided to support your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35A36-A7D7-4370-9979-BAE3763231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D9FC8-4CF7-4CD1-8B65-BB3EF96971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6561D-2355-46A9-BB37-7A36D72531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B1B5F-66B4-41A3-8B10-45A81A17AD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013E1-27B3-441A-9C76-83E39EE1B5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CC9D0-B2A5-43F9-AC1A-6111EA522D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0E3F5-3F6E-4483-BB4A-2EE4B36929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ACF83-D93F-4D1D-9FC7-AAA7B74D66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814FE-530D-4D5F-8A46-66B201D375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087DB-3FAC-4B8B-8BD0-E2D5B3C617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37A83-B855-40FF-A27F-227167B085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6A5C9-DD5F-4815-90D4-A9C4EBC9BF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BA71-E166-4828-8D81-F86A67AC5A2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39BD-59D4-492B-88FA-404B147EF0F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Math at the Beach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Grade 5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Deb W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Mary Fi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E:\Beach Images\Beach &amp; Water (A - B)\Beach Chair &amp; Umbrella 2.wmf"/>
          <p:cNvPicPr/>
          <p:nvPr/>
        </p:nvPicPr>
        <p:blipFill>
          <a:blip r:embed="rId3"/>
          <a:stretch/>
        </p:blipFill>
        <p:spPr>
          <a:xfrm>
            <a:off x="609480" y="4038480"/>
            <a:ext cx="171144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E:\Beach Images\Beach &amp; Water (C - G)\Desert Island 1.wmf"/>
          <p:cNvPicPr/>
          <p:nvPr/>
        </p:nvPicPr>
        <p:blipFill>
          <a:blip r:embed="rId4"/>
          <a:stretch/>
        </p:blipFill>
        <p:spPr>
          <a:xfrm>
            <a:off x="7162920" y="3962520"/>
            <a:ext cx="1795320" cy="2361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E:\Beach Images\Beach &amp; Water (A - B)\Beach Balls 3.wmf"/>
          <p:cNvPicPr/>
          <p:nvPr/>
        </p:nvPicPr>
        <p:blipFill>
          <a:blip r:embed="rId5"/>
          <a:stretch/>
        </p:blipFill>
        <p:spPr>
          <a:xfrm>
            <a:off x="6629400" y="228600"/>
            <a:ext cx="228744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152280" y="685800"/>
          <a:ext cx="8839440" cy="5751360"/>
        </p:xfrm>
        <a:graphic>
          <a:graphicData uri="http://schemas.openxmlformats.org/drawingml/2006/table">
            <a:tbl>
              <a:tblPr/>
              <a:tblGrid>
                <a:gridCol w="2514600"/>
                <a:gridCol w="1020960"/>
                <a:gridCol w="1112760"/>
                <a:gridCol w="1523880"/>
                <a:gridCol w="609840"/>
                <a:gridCol w="2057400"/>
              </a:tblGrid>
              <a:tr h="228600">
                <a:tc gridSpan="6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fining the Core of the Less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31800">
                <a:tc gridSpan="2" rowSpan="2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ig Ideas/Enduring Understanding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db7e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verall Expectation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db7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pecific Expectation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db7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cess Expectation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6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arning Goal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3366ff"/>
                        </a:gs>
                      </a:gsLst>
                      <a:lin ang="27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840">
                <a:tc gridSpan="6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 gridSpan="6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ccess Crite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8092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nowledge/Understa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db7e9"/>
                    </a:solidFill>
                  </a:tcPr>
                </a:tc>
                <a:tc gridSpan="2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ink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07D8-39F5-44A2-B9D7-049ABEBFCAE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819360" y="210240"/>
            <a:ext cx="791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Assessment FOR/AS Learning Lesson Analysis and Planning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6"/>
          <p:cNvSpPr/>
          <p:nvPr/>
        </p:nvSpPr>
        <p:spPr>
          <a:xfrm>
            <a:off x="152280" y="76320"/>
            <a:ext cx="533520" cy="53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7"/>
          <p:cNvSpPr/>
          <p:nvPr/>
        </p:nvSpPr>
        <p:spPr>
          <a:xfrm>
            <a:off x="255600" y="201600"/>
            <a:ext cx="304920" cy="304920"/>
          </a:xfrm>
          <a:prstGeom prst="ellipse">
            <a:avLst/>
          </a:prstGeom>
          <a:solidFill>
            <a:srgbClr val="6db7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8"/>
          <p:cNvSpPr/>
          <p:nvPr/>
        </p:nvSpPr>
        <p:spPr>
          <a:xfrm>
            <a:off x="380880" y="31896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Straight Arrow Connector 7"/>
          <p:cNvCxnSpPr/>
          <p:nvPr/>
        </p:nvCxnSpPr>
        <p:spPr>
          <a:xfrm flipH="1" flipV="1">
            <a:off x="5485680" y="2666520"/>
            <a:ext cx="686520" cy="1533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" name="TextBox 8"/>
          <p:cNvSpPr/>
          <p:nvPr/>
        </p:nvSpPr>
        <p:spPr>
          <a:xfrm>
            <a:off x="6172200" y="254016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57320" y="3809880"/>
          <a:ext cx="8827920" cy="258840"/>
        </p:xfrm>
        <a:graphic>
          <a:graphicData uri="http://schemas.openxmlformats.org/drawingml/2006/table">
            <a:tbl>
              <a:tblPr/>
              <a:tblGrid>
                <a:gridCol w="882792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2b5ca9"/>
                </a:solidFill>
                <a:latin typeface="Arial"/>
              </a:rPr>
              <a:t>Learning Goal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19047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th CAMPPP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owing Success Document p. 3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FFFD-4108-4070-91E6-592934EC1DB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1" descr="C:\Documents and Settings\sandra.fraser\Desktop\Beach Images\Beach &amp; Water (R - Su)\Snorkeler 30.wmf"/>
          <p:cNvPicPr/>
          <p:nvPr/>
        </p:nvPicPr>
        <p:blipFill>
          <a:blip r:embed="rId1"/>
          <a:stretch/>
        </p:blipFill>
        <p:spPr>
          <a:xfrm>
            <a:off x="7848720" y="76320"/>
            <a:ext cx="1295280" cy="99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152280" y="685800"/>
          <a:ext cx="8839440" cy="5751360"/>
        </p:xfrm>
        <a:graphic>
          <a:graphicData uri="http://schemas.openxmlformats.org/drawingml/2006/table">
            <a:tbl>
              <a:tblPr/>
              <a:tblGrid>
                <a:gridCol w="2514600"/>
                <a:gridCol w="1020960"/>
                <a:gridCol w="1112760"/>
                <a:gridCol w="1523880"/>
                <a:gridCol w="609840"/>
                <a:gridCol w="2057400"/>
              </a:tblGrid>
              <a:tr h="228600">
                <a:tc gridSpan="6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fining the Core of the Less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31800">
                <a:tc gridSpan="2" rowSpan="2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ig Ideas/Enduring Understanding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db7e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verall Expectation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db7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pecific Expectation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db7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cess Expectation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6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arning Goal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3366ff"/>
                        </a:gs>
                      </a:gsLst>
                      <a:lin ang="27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840">
                <a:tc gridSpan="6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 gridSpan="6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ccess Crite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8092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nowledge/Understa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db7e9"/>
                    </a:solidFill>
                  </a:tcPr>
                </a:tc>
                <a:tc gridSpan="2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ink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2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8F1B-EE66-4533-9783-B05E4F44EF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819360" y="210240"/>
            <a:ext cx="791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Assessment FOR/AS Learning Lesson Analysis and Planning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6"/>
          <p:cNvSpPr/>
          <p:nvPr/>
        </p:nvSpPr>
        <p:spPr>
          <a:xfrm>
            <a:off x="152280" y="76320"/>
            <a:ext cx="533520" cy="53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255600" y="201600"/>
            <a:ext cx="304920" cy="304920"/>
          </a:xfrm>
          <a:prstGeom prst="ellipse">
            <a:avLst/>
          </a:prstGeom>
          <a:solidFill>
            <a:srgbClr val="6db7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8"/>
          <p:cNvSpPr/>
          <p:nvPr/>
        </p:nvSpPr>
        <p:spPr>
          <a:xfrm>
            <a:off x="380880" y="31896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Straight Arrow Connector 7"/>
          <p:cNvCxnSpPr/>
          <p:nvPr/>
        </p:nvCxnSpPr>
        <p:spPr>
          <a:xfrm flipH="1" flipV="1">
            <a:off x="4494960" y="3428280"/>
            <a:ext cx="686520" cy="1530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4" name="TextBox 8"/>
          <p:cNvSpPr/>
          <p:nvPr/>
        </p:nvSpPr>
        <p:spPr>
          <a:xfrm>
            <a:off x="5410080" y="32004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57320" y="3809880"/>
          <a:ext cx="8827920" cy="258840"/>
        </p:xfrm>
        <a:graphic>
          <a:graphicData uri="http://schemas.openxmlformats.org/drawingml/2006/table">
            <a:tbl>
              <a:tblPr/>
              <a:tblGrid>
                <a:gridCol w="882792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2b5ca9"/>
                </a:solidFill>
                <a:latin typeface="Arial"/>
              </a:rPr>
              <a:t>Success Criteria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3520" y="160020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th CAMPPP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owing Success Document p. 3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5466-0808-4E17-87E5-67BEE63D8D0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1" descr="C:\Documents and Settings\sandra.fraser\Desktop\Beach Images\Beach &amp; Water (R - Su)\Snorkeler 30.wmf"/>
          <p:cNvPicPr/>
          <p:nvPr/>
        </p:nvPicPr>
        <p:blipFill>
          <a:blip r:embed="rId1"/>
          <a:stretch/>
        </p:blipFill>
        <p:spPr>
          <a:xfrm>
            <a:off x="7848720" y="76320"/>
            <a:ext cx="1295280" cy="99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Math Processes  and the Achievement Char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9668-79B8-4FF4-8993-9D6BBD4F1E3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1" descr="C:\Documents and Settings\sandra.fraser\Desktop\Beach Images\Beach &amp; Water (R - Su)\Snorkeler 30.wmf"/>
          <p:cNvPicPr/>
          <p:nvPr/>
        </p:nvPicPr>
        <p:blipFill>
          <a:blip r:embed="rId1"/>
          <a:stretch/>
        </p:blipFill>
        <p:spPr>
          <a:xfrm>
            <a:off x="7391520" y="152280"/>
            <a:ext cx="1752480" cy="1339920"/>
          </a:xfrm>
          <a:prstGeom prst="rect">
            <a:avLst/>
          </a:prstGeom>
          <a:ln w="0">
            <a:noFill/>
          </a:ln>
        </p:spPr>
      </p:pic>
      <p:sp>
        <p:nvSpPr>
          <p:cNvPr id="144" name="Cloud Callout 5"/>
          <p:cNvSpPr/>
          <p:nvPr/>
        </p:nvSpPr>
        <p:spPr>
          <a:xfrm>
            <a:off x="2666880" y="2590920"/>
            <a:ext cx="5029200" cy="23619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orting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Math Congres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2753-7639-4A09-810F-5F0E4CA6E7F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1" descr="C:\Documents and Settings\sandra.fraser\Desktop\Beach Images\Beach &amp; Water (R - Su)\Snorkeler 30.wmf"/>
          <p:cNvPicPr/>
          <p:nvPr/>
        </p:nvPicPr>
        <p:blipFill>
          <a:blip r:embed="rId1"/>
          <a:stretch/>
        </p:blipFill>
        <p:spPr>
          <a:xfrm>
            <a:off x="7391520" y="152280"/>
            <a:ext cx="1752480" cy="1339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C:\Documents and Settings\sandra.fraser\Desktop\Beach Images\Barbeques &amp; Picnics\Parachute Fun 2.wmf"/>
          <p:cNvPicPr/>
          <p:nvPr/>
        </p:nvPicPr>
        <p:blipFill>
          <a:blip r:embed="rId2"/>
          <a:stretch/>
        </p:blipFill>
        <p:spPr>
          <a:xfrm>
            <a:off x="1371600" y="1881360"/>
            <a:ext cx="6095880" cy="34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152280" y="685800"/>
          <a:ext cx="8839440" cy="5751360"/>
        </p:xfrm>
        <a:graphic>
          <a:graphicData uri="http://schemas.openxmlformats.org/drawingml/2006/table">
            <a:tbl>
              <a:tblPr/>
              <a:tblGrid>
                <a:gridCol w="2514600"/>
                <a:gridCol w="1020960"/>
                <a:gridCol w="1112760"/>
                <a:gridCol w="1523880"/>
                <a:gridCol w="609840"/>
                <a:gridCol w="2057400"/>
              </a:tblGrid>
              <a:tr h="228600">
                <a:tc gridSpan="6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fining the Core of the Less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31800">
                <a:tc gridSpan="2" rowSpan="2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ig Ideas/Enduring Understanding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db7e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verall Expectation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db7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pecific Expectation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db7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cess Expectation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6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arning Goal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3366ff"/>
                        </a:gs>
                      </a:gsLst>
                      <a:lin ang="27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840">
                <a:tc gridSpan="6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 gridSpan="6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ccess Crite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8092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nowledge/Understa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db7e9"/>
                    </a:solidFill>
                  </a:tcPr>
                </a:tc>
                <a:tc gridSpan="2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ink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5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1E86-D51E-4F20-A056-41017EF9350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"/>
          <p:cNvSpPr/>
          <p:nvPr/>
        </p:nvSpPr>
        <p:spPr>
          <a:xfrm>
            <a:off x="819360" y="210240"/>
            <a:ext cx="791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Assessment FOR/AS Learning Lesson Analysis and Planning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6"/>
          <p:cNvSpPr/>
          <p:nvPr/>
        </p:nvSpPr>
        <p:spPr>
          <a:xfrm>
            <a:off x="152280" y="76320"/>
            <a:ext cx="533520" cy="53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7"/>
          <p:cNvSpPr/>
          <p:nvPr/>
        </p:nvSpPr>
        <p:spPr>
          <a:xfrm>
            <a:off x="255600" y="201600"/>
            <a:ext cx="304920" cy="304920"/>
          </a:xfrm>
          <a:prstGeom prst="ellipse">
            <a:avLst/>
          </a:prstGeom>
          <a:solidFill>
            <a:srgbClr val="6db7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8"/>
          <p:cNvSpPr/>
          <p:nvPr/>
        </p:nvSpPr>
        <p:spPr>
          <a:xfrm>
            <a:off x="380880" y="31896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4"/>
          <p:cNvSpPr/>
          <p:nvPr/>
        </p:nvSpPr>
        <p:spPr>
          <a:xfrm>
            <a:off x="0" y="4267080"/>
            <a:ext cx="15238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57320" y="3809880"/>
          <a:ext cx="8827920" cy="258840"/>
        </p:xfrm>
        <a:graphic>
          <a:graphicData uri="http://schemas.openxmlformats.org/drawingml/2006/table">
            <a:tbl>
              <a:tblPr/>
              <a:tblGrid>
                <a:gridCol w="882792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The Frayer Model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587F-267D-4828-85B4-B3C83317F1F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1" descr="C:\Documents and Settings\sandra.fraser\Desktop\Beach Images\Beach &amp; Water (R - Su)\Snorkeler 30.wmf"/>
          <p:cNvPicPr/>
          <p:nvPr/>
        </p:nvPicPr>
        <p:blipFill>
          <a:blip r:embed="rId1"/>
          <a:stretch/>
        </p:blipFill>
        <p:spPr>
          <a:xfrm>
            <a:off x="7391520" y="152280"/>
            <a:ext cx="1752480" cy="13399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7"/>
          <p:cNvSpPr/>
          <p:nvPr/>
        </p:nvSpPr>
        <p:spPr>
          <a:xfrm>
            <a:off x="380880" y="1447920"/>
            <a:ext cx="8153640" cy="3962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8"/>
          <p:cNvSpPr/>
          <p:nvPr/>
        </p:nvSpPr>
        <p:spPr>
          <a:xfrm>
            <a:off x="2895480" y="2819520"/>
            <a:ext cx="312444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12"/>
          <p:cNvSpPr/>
          <p:nvPr/>
        </p:nvSpPr>
        <p:spPr>
          <a:xfrm>
            <a:off x="4457880" y="14479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15"/>
          <p:cNvSpPr/>
          <p:nvPr/>
        </p:nvSpPr>
        <p:spPr>
          <a:xfrm>
            <a:off x="4468680" y="39625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18"/>
          <p:cNvSpPr/>
          <p:nvPr/>
        </p:nvSpPr>
        <p:spPr>
          <a:xfrm>
            <a:off x="6019920" y="3390840"/>
            <a:ext cx="25146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20"/>
          <p:cNvSpPr/>
          <p:nvPr/>
        </p:nvSpPr>
        <p:spPr>
          <a:xfrm>
            <a:off x="380880" y="3429000"/>
            <a:ext cx="25146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1"/>
          <p:cNvSpPr/>
          <p:nvPr/>
        </p:nvSpPr>
        <p:spPr>
          <a:xfrm>
            <a:off x="1600200" y="1447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2"/>
          <p:cNvSpPr/>
          <p:nvPr/>
        </p:nvSpPr>
        <p:spPr>
          <a:xfrm>
            <a:off x="5029200" y="14479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acts/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3"/>
          <p:cNvSpPr/>
          <p:nvPr/>
        </p:nvSpPr>
        <p:spPr>
          <a:xfrm>
            <a:off x="5486400" y="49482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n-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24"/>
          <p:cNvSpPr/>
          <p:nvPr/>
        </p:nvSpPr>
        <p:spPr>
          <a:xfrm>
            <a:off x="1676520" y="49482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roportional Reasoning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reakout 2 – Building Learning Goals and Success Criteria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A63F-5168-44A4-80B3-143D58BCCC0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C:\Documents and Settings\sandra.fraser\Desktop\Beach Images\Beach &amp; Water (R - Su)\Snorkeler 30.wmf"/>
          <p:cNvPicPr/>
          <p:nvPr/>
        </p:nvPicPr>
        <p:blipFill>
          <a:blip r:embed="rId1"/>
          <a:stretch/>
        </p:blipFill>
        <p:spPr>
          <a:xfrm>
            <a:off x="7391520" y="152280"/>
            <a:ext cx="1752480" cy="1339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C:\Documents and Settings\sandra.fraser\Desktop\Beach Images\Beach &amp; Water (R - Su)\Snorkeler &amp; Starfish.wmf"/>
          <p:cNvPicPr/>
          <p:nvPr/>
        </p:nvPicPr>
        <p:blipFill>
          <a:blip r:embed="rId2"/>
          <a:stretch/>
        </p:blipFill>
        <p:spPr>
          <a:xfrm>
            <a:off x="2133720" y="3124080"/>
            <a:ext cx="5278320" cy="29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b5ca9"/>
                </a:solidFill>
                <a:latin typeface="Arial"/>
              </a:rPr>
              <a:t>Learning Goals</a:t>
            </a:r>
            <a:br>
              <a:rPr sz="4400"/>
            </a:b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tend our understanding of the big ideas of proportional reasoning through a hands-on mathematical exper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plore and experiment with learning goals and success crite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A7E5-A64D-4B93-8CC7-99FB40F7B98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2084-C580-4294-9066-B6A7E36DA2D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C:\Documents and Settings\sandra.fraser\Desktop\Beach Images\Beach &amp; Water (R - Su)\Snorkeler 30.wmf"/>
          <p:cNvPicPr/>
          <p:nvPr/>
        </p:nvPicPr>
        <p:blipFill>
          <a:blip r:embed="rId2"/>
          <a:stretch/>
        </p:blipFill>
        <p:spPr>
          <a:xfrm>
            <a:off x="7391520" y="152280"/>
            <a:ext cx="1752480" cy="133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Place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11C2-785E-4921-AA83-0C4AAB88430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1" descr="C:\Documents and Settings\sandra.fraser\Desktop\Beach Images\Beach &amp; Water (R - Su)\Snorkeler 30.wmf"/>
          <p:cNvPicPr/>
          <p:nvPr/>
        </p:nvPicPr>
        <p:blipFill>
          <a:blip r:embed="rId1"/>
          <a:stretch/>
        </p:blipFill>
        <p:spPr>
          <a:xfrm>
            <a:off x="7391520" y="152280"/>
            <a:ext cx="1752480" cy="1339920"/>
          </a:xfrm>
          <a:prstGeom prst="rect">
            <a:avLst/>
          </a:prstGeom>
          <a:ln w="0">
            <a:noFill/>
          </a:ln>
        </p:spPr>
      </p:pic>
      <p:sp>
        <p:nvSpPr>
          <p:cNvPr id="66" name="Rounded Rectangle 8"/>
          <p:cNvSpPr/>
          <p:nvPr/>
        </p:nvSpPr>
        <p:spPr>
          <a:xfrm>
            <a:off x="838080" y="1371600"/>
            <a:ext cx="7696440" cy="4114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9"/>
          <p:cNvSpPr/>
          <p:nvPr/>
        </p:nvSpPr>
        <p:spPr>
          <a:xfrm>
            <a:off x="3276720" y="2854440"/>
            <a:ext cx="281916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11"/>
          <p:cNvSpPr/>
          <p:nvPr/>
        </p:nvSpPr>
        <p:spPr>
          <a:xfrm>
            <a:off x="4686480" y="1371600"/>
            <a:ext cx="0" cy="148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13"/>
          <p:cNvSpPr/>
          <p:nvPr/>
        </p:nvSpPr>
        <p:spPr>
          <a:xfrm flipV="1">
            <a:off x="4686480" y="3997440"/>
            <a:ext cx="0" cy="148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15"/>
          <p:cNvSpPr/>
          <p:nvPr/>
        </p:nvSpPr>
        <p:spPr>
          <a:xfrm>
            <a:off x="6095880" y="3425760"/>
            <a:ext cx="24386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traight Connector 17"/>
          <p:cNvSpPr/>
          <p:nvPr/>
        </p:nvSpPr>
        <p:spPr>
          <a:xfrm flipV="1">
            <a:off x="838080" y="3425400"/>
            <a:ext cx="24386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8"/>
          <p:cNvSpPr/>
          <p:nvPr/>
        </p:nvSpPr>
        <p:spPr>
          <a:xfrm>
            <a:off x="3429000" y="3195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ink-tank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9"/>
          <p:cNvSpPr/>
          <p:nvPr/>
        </p:nvSpPr>
        <p:spPr>
          <a:xfrm>
            <a:off x="5105520" y="4343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ff0000"/>
                </a:solidFill>
                <a:latin typeface="Arial"/>
              </a:rPr>
              <a:t>Personal Think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0"/>
          <p:cNvSpPr/>
          <p:nvPr/>
        </p:nvSpPr>
        <p:spPr>
          <a:xfrm>
            <a:off x="1143000" y="434664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b050"/>
                </a:solidFill>
                <a:latin typeface="Arial"/>
              </a:rPr>
              <a:t>Personal Think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1"/>
          <p:cNvSpPr/>
          <p:nvPr/>
        </p:nvSpPr>
        <p:spPr>
          <a:xfrm flipV="1">
            <a:off x="4343400" y="1982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6600ff"/>
                </a:solidFill>
                <a:latin typeface="Arial"/>
              </a:rPr>
              <a:t>Personal Think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2"/>
          <p:cNvSpPr/>
          <p:nvPr/>
        </p:nvSpPr>
        <p:spPr>
          <a:xfrm flipV="1">
            <a:off x="533520" y="1982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ffff00"/>
                </a:solidFill>
                <a:latin typeface="Arial"/>
              </a:rPr>
              <a:t>Personal Think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emonade Tas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A9B3-5797-4C60-8AF3-005A2D4B65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1" descr="C:\Documents and Settings\sandra.fraser\Desktop\Beach Images\Beach &amp; Water (R - Su)\Snorkeler 30.wmf"/>
          <p:cNvPicPr/>
          <p:nvPr/>
        </p:nvPicPr>
        <p:blipFill>
          <a:blip r:embed="rId1"/>
          <a:stretch/>
        </p:blipFill>
        <p:spPr>
          <a:xfrm>
            <a:off x="7391520" y="152280"/>
            <a:ext cx="1752480" cy="1339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sandra.fraser\Desktop\Beach Images\Beach &amp; Water (Su - Sw)\Sunbathing 58.wmf"/>
          <p:cNvPicPr/>
          <p:nvPr/>
        </p:nvPicPr>
        <p:blipFill>
          <a:blip r:embed="rId2"/>
          <a:stretch/>
        </p:blipFill>
        <p:spPr>
          <a:xfrm>
            <a:off x="2286000" y="1371600"/>
            <a:ext cx="4648320" cy="430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903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emonade Problem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28240" y="9219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Sandra and Erik are in charge of making lemonade for the beach par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They make the lemonade by using lemon juice concentrate and mixing it with water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Unfortunately, they forgot to bring the recipe to the beach party, so they try a few op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Which mixture will be the most lemony?  How do you k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8C21-ED22-4296-A1F9-1AD9C451BF5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5029200" y="2514600"/>
            <a:ext cx="35812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ix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 cups juice concen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4 cups cold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685800" y="2514600"/>
            <a:ext cx="35812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ix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2 cups juice concen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3 cups cold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685800" y="3886200"/>
            <a:ext cx="35812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ix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4 cups juice concen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8 cups cold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5029200" y="3886200"/>
            <a:ext cx="35812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ix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3 cups juice concen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5 cups cold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1" descr="C:\Documents and Settings\sandra.fraser\Desktop\Beach Images\Beach &amp; Water (R - Su)\Snorkeler 30.wmf"/>
          <p:cNvPicPr/>
          <p:nvPr/>
        </p:nvPicPr>
        <p:blipFill>
          <a:blip r:embed="rId1"/>
          <a:stretch/>
        </p:blipFill>
        <p:spPr>
          <a:xfrm>
            <a:off x="8047080" y="152280"/>
            <a:ext cx="1096920" cy="8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emonade Problem 2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0" y="9903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andra was mixing herself a glass of lemonade. “You certainly have enough lemon juice concentrate in the glass,” remarked Erik, who then began to prepare h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wn drink.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“Only a third of a glass of lemon juice concentrate,” said Sandra. “And you’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ly taking your share.”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“I only have one-fourth of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ass,” estimated Erik.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“But Erik, your glass hold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ce as much!”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“Tell you what…” said Erik, after they both had mixed lemon juice concentrate and water in their glasses. “Let’s combine our drinks in a larger pitcher, and then split the who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unt.”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ile Sandra is trying to decide whether or not this arrangement is to her advantage, can you say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what part of the combined mixture would be more lemon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FECF-B53E-41A9-AEB7-BF9A7972D13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1" descr="C:\Documents and Settings\sandra.fraser\Desktop\Beach Images\Beach &amp; Water (R - Su)\Snorkeler 30.wmf"/>
          <p:cNvPicPr/>
          <p:nvPr/>
        </p:nvPicPr>
        <p:blipFill>
          <a:blip r:embed="rId1"/>
          <a:stretch/>
        </p:blipFill>
        <p:spPr>
          <a:xfrm>
            <a:off x="7848720" y="76320"/>
            <a:ext cx="1295280" cy="99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52280" y="685800"/>
          <a:ext cx="8839440" cy="5751360"/>
        </p:xfrm>
        <a:graphic>
          <a:graphicData uri="http://schemas.openxmlformats.org/drawingml/2006/table">
            <a:tbl>
              <a:tblPr/>
              <a:tblGrid>
                <a:gridCol w="2133720"/>
                <a:gridCol w="1401840"/>
                <a:gridCol w="807840"/>
                <a:gridCol w="1828800"/>
                <a:gridCol w="381240"/>
                <a:gridCol w="2286000"/>
              </a:tblGrid>
              <a:tr h="228600">
                <a:tc gridSpan="6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fining the Core of the Less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31800">
                <a:tc gridSpan="2" rowSpan="2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ig Ideas/Enduring Understanding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db7e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verall Expectation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db7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pecific Expectation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db7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cess Expectation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6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arning Goal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3366ff"/>
                        </a:gs>
                      </a:gsLst>
                      <a:lin ang="27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840">
                <a:tc gridSpan="6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 gridSpan="6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ccess Crite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8092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nowledge/Understa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db7e9"/>
                    </a:solidFill>
                  </a:tcPr>
                </a:tc>
                <a:tc gridSpan="2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ink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9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4D17-8B98-4DE6-AE2F-B0F7DE52EFE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"/>
          <p:cNvSpPr/>
          <p:nvPr/>
        </p:nvSpPr>
        <p:spPr>
          <a:xfrm>
            <a:off x="819360" y="210240"/>
            <a:ext cx="791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Assessment FOR/AS Learning Lesson Analysis and Planning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>
            <a:off x="152280" y="76320"/>
            <a:ext cx="533520" cy="53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>
            <a:off x="255600" y="201600"/>
            <a:ext cx="304920" cy="304920"/>
          </a:xfrm>
          <a:prstGeom prst="ellipse">
            <a:avLst/>
          </a:prstGeom>
          <a:solidFill>
            <a:srgbClr val="6db7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8"/>
          <p:cNvSpPr/>
          <p:nvPr/>
        </p:nvSpPr>
        <p:spPr>
          <a:xfrm>
            <a:off x="380880" y="31896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57320" y="3809880"/>
          <a:ext cx="8827920" cy="258840"/>
        </p:xfrm>
        <a:graphic>
          <a:graphicData uri="http://schemas.openxmlformats.org/drawingml/2006/table">
            <a:tbl>
              <a:tblPr/>
              <a:tblGrid>
                <a:gridCol w="882792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52280" y="685800"/>
          <a:ext cx="8839440" cy="5751360"/>
        </p:xfrm>
        <a:graphic>
          <a:graphicData uri="http://schemas.openxmlformats.org/drawingml/2006/table">
            <a:tbl>
              <a:tblPr/>
              <a:tblGrid>
                <a:gridCol w="2514600"/>
                <a:gridCol w="1020960"/>
                <a:gridCol w="1112760"/>
                <a:gridCol w="1523880"/>
                <a:gridCol w="609840"/>
                <a:gridCol w="2057400"/>
              </a:tblGrid>
              <a:tr h="228600">
                <a:tc gridSpan="6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fining the Core of the Less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31800">
                <a:tc gridSpan="2" rowSpan="2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ig Ideas/Enduring Understanding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db7e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verall Expectation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db7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pecific Expectation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db7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cess Expectation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6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arning Goal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99"/>
                        </a:gs>
                        <a:gs pos="100000">
                          <a:srgbClr val="3366ff"/>
                        </a:gs>
                      </a:gsLst>
                      <a:lin ang="27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840">
                <a:tc gridSpan="6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 gridSpan="6"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ccess Crite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8092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nowledge/Understa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db7e9"/>
                    </a:solidFill>
                  </a:tcPr>
                </a:tc>
                <a:tc gridSpan="2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ink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0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F1D7-1884-43A4-80CA-E8841C023AA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"/>
          <p:cNvSpPr/>
          <p:nvPr/>
        </p:nvSpPr>
        <p:spPr>
          <a:xfrm>
            <a:off x="819360" y="210240"/>
            <a:ext cx="791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Assessment FOR/AS Learning Lesson Analysis and Planning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6"/>
          <p:cNvSpPr/>
          <p:nvPr/>
        </p:nvSpPr>
        <p:spPr>
          <a:xfrm>
            <a:off x="152280" y="76320"/>
            <a:ext cx="533520" cy="53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7"/>
          <p:cNvSpPr/>
          <p:nvPr/>
        </p:nvSpPr>
        <p:spPr>
          <a:xfrm>
            <a:off x="255600" y="201600"/>
            <a:ext cx="304920" cy="304920"/>
          </a:xfrm>
          <a:prstGeom prst="ellipse">
            <a:avLst/>
          </a:prstGeom>
          <a:solidFill>
            <a:srgbClr val="6db7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8"/>
          <p:cNvSpPr/>
          <p:nvPr/>
        </p:nvSpPr>
        <p:spPr>
          <a:xfrm>
            <a:off x="380880" y="31896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Straight Arrow Connector 11"/>
          <p:cNvCxnSpPr/>
          <p:nvPr/>
        </p:nvCxnSpPr>
        <p:spPr>
          <a:xfrm flipH="1" flipV="1">
            <a:off x="913680" y="1218960"/>
            <a:ext cx="610200" cy="457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7" name="TextBox 13"/>
          <p:cNvSpPr/>
          <p:nvPr/>
        </p:nvSpPr>
        <p:spPr>
          <a:xfrm>
            <a:off x="1523880" y="139716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Straight Arrow Connector 14"/>
          <p:cNvCxnSpPr/>
          <p:nvPr/>
        </p:nvCxnSpPr>
        <p:spPr>
          <a:xfrm flipH="1" flipV="1">
            <a:off x="5485680" y="1218960"/>
            <a:ext cx="610200" cy="457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9" name="Straight Arrow Connector 18"/>
          <p:cNvCxnSpPr/>
          <p:nvPr/>
        </p:nvCxnSpPr>
        <p:spPr>
          <a:xfrm flipV="1">
            <a:off x="6476760" y="1218960"/>
            <a:ext cx="610200" cy="457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0" name="TextBox 23"/>
          <p:cNvSpPr/>
          <p:nvPr/>
        </p:nvSpPr>
        <p:spPr>
          <a:xfrm>
            <a:off x="5943600" y="16002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57320" y="3809880"/>
          <a:ext cx="8827920" cy="258840"/>
        </p:xfrm>
        <a:graphic>
          <a:graphicData uri="http://schemas.openxmlformats.org/drawingml/2006/table">
            <a:tbl>
              <a:tblPr/>
              <a:tblGrid>
                <a:gridCol w="882792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cxnSp>
        <p:nvCxnSpPr>
          <p:cNvPr id="112" name="Straight Arrow Connector 8"/>
          <p:cNvCxnSpPr/>
          <p:nvPr/>
        </p:nvCxnSpPr>
        <p:spPr>
          <a:xfrm flipH="1" flipV="1">
            <a:off x="685080" y="3961800"/>
            <a:ext cx="686520" cy="1530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3" name="TextBox 10"/>
          <p:cNvSpPr/>
          <p:nvPr/>
        </p:nvSpPr>
        <p:spPr>
          <a:xfrm>
            <a:off x="1371600" y="38098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d.wines</cp:lastModifiedBy>
  <dcterms:modified xsi:type="dcterms:W3CDTF">2011-08-17T15:18:06Z</dcterms:modified>
  <cp:revision>247</cp:revision>
  <dc:subject/>
  <dc:title>&lt;Title&gt;</dc:title>
</cp:coreProperties>
</file>